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E5C27-B203-494B-A4F1-CD02019C9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47B7F-992F-4F33-ACE9-0CAEC8020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6694D-E82B-477C-90A2-9A4FFA889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FF8A9-B2B5-4A89-A4BB-ACE4709EA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0326B-7528-486A-A2F8-7F122C287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AA7B1-C2E9-42E5-8D41-6F9B669AB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B049B-12ED-4104-847F-B2758E7FD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24815-EFFB-4844-90E5-50EADEC74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61ABB-16B2-4CFA-B8D6-ADA7646EA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65A62-98E1-4A86-B2A9-F9433ED24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4D932-C4B3-4E8D-970E-922F8993F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FAFDB-237F-45A0-AF74-E5DABDAE4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EB027-0D8A-45DB-BAD4-482291360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4C3B0-CA14-467B-8952-77802DB28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B98C4-1E49-43DD-9D2B-CDD342622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4990A-6A2E-4B4D-BC12-705A8D88A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8EFB2-B46A-4F71-B25B-70CBB6679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E9DE0-67A0-4974-90B0-E9FB16821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0C7D0-3C6D-4089-A20E-0E0327B1B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886C5-315D-4777-9ADD-C4E1CC2BA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3EAF5-C5E8-466E-BA63-D033CED4F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10E3F-A68C-405B-8F29-F2879948E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8FC45-42E6-4B84-944D-5B40B8A9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4C271-FC35-40D1-AF2E-1ABA934C0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37DAD-2B19-4D25-8655-C8206A6F0354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46BD4-B865-42B2-BE64-2BEBAD3ECD45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108000" y="191520"/>
            <a:ext cx="89280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22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15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Мислете за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ом горе там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 небесната бистра река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е светиите в Божия храм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 бели дрехи ще се облекат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Горе там, горе там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 бели дрехи ще се облекат;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горе там, горе там, горе там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 бели дрехи ще се облекат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79280" y="1183680"/>
            <a:ext cx="8964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О, колко жилища за нас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ам приготвил е наш Господ там, де ще срещнем и милия Спас, Кой с любов даде спасение нам! Горе там, горе там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ие ще срещнем и нашия Спас! Горе там, горе там, горе там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ие ще срещнем и нашия Спас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179280" y="1183680"/>
            <a:ext cx="8964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Аз скоро ще съм горе там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т греха съвършено спасен;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е се кланям пред Спаса и - знам-аз ще бъда навеки блажен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Горе там, горе там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аз ще бъда навеки блажен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Горе там, горе там, горе там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аз ще бъда навеки блажен.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1-10-08T15:35:25Z</dcterms:modified>
  <cp:revision>71</cp:revision>
  <dc:subject/>
  <dc:title>Slide 1</dc:title>
</cp:coreProperties>
</file>